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8A0-5BFD-435B-B57A-BC6C7541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F84-195B-4061-A158-F0C98487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4DE-92F0-4F1B-AD0A-1ECBDABF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B2F-520D-4099-B4D3-E7174E69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4E9F-5B96-4304-81CD-774BE43F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A31B-A2F5-4836-89F0-19B905B7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858C-3BDD-4BB2-AE34-C48BA5B3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F94C-CE07-4E27-B475-DF3718DE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FF08-CDC6-4ED2-A2F4-9AB0480F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E7AD-F315-4458-B175-0AD9EB2A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C1B0-1EE0-4441-99F2-0E9FBD5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FEA-0623-4533-B49E-6824785B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2D14-0DA4-486F-A73F-E927CCBC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1539-5783-4EFF-9C82-24D7891E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B464-FC89-4A31-939B-9AE366E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54E4-C4E8-4AE3-AEF6-8B16D10F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D729-B875-4E0A-9153-96456BF7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E9F85-B5DC-49B1-8D97-2DC918DC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467F-0A54-4EFE-9B69-4C90A557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B9F2-5E03-4495-A95F-E5DD7197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3B45-63AA-44D4-A4B3-148FD1B9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1DB0-9660-4555-AE6F-B416203F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262-DB98-471B-9426-9721E54D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8F08-A692-4266-94FA-F3E4766B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EA4E-C89A-45D5-813D-647C504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430D-270C-4133-A548-544262F1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0AC4-6FEB-42AD-A5DE-142F5370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B9FC-3097-474C-8F6E-C6BEDE8C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C89D-D22A-4FE9-BE79-4F0FB940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4CC6-A078-43C6-9E2C-2BBAFBD3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06C2-D7DC-411D-A50C-69632922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137F-5A58-40F3-8CDC-1DF455E0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BA5E-67F3-4EAA-A9C6-B630BB5E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9DB-8246-4526-B4E3-AE19DC7C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6CE94-462D-4315-AD43-13F56EF4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315D-EBBE-4C81-9294-BA67CA99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15F82-7AAD-4443-8D39-BFBA9C0B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0505-5847-4C75-979A-B35F6805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48D2-C92E-4D4F-B52A-95E7BFB6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6673-12D3-4407-BC7B-FB4265D3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3D41-0915-4BE9-9BB4-E6DA4D2D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6BCFB-E461-4C03-9B2C-DA97D1FB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65199-78D6-4D63-B2C6-70FB5A0B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348-2D0C-4A9C-8D90-F7C79F3A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592-08FD-488D-8535-885687FD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961-9EE4-48B8-9349-92090DEE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691-EEED-4E92-938A-A96223DE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251-55D4-4FA1-95B8-2814785E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FEFB-3217-409F-9606-0211A395618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1516-D736-43EC-825D-C3A2AB6C463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2180-5123-436E-BC05-7B85119858E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A317-0F3C-48BA-A515-B349DC81424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aphorisme.ru/by-authors/pifagor/?q=28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969840" y="2133720"/>
            <a:ext cx="7174080" cy="1792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611280" y="404640"/>
            <a:ext cx="8137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БОУ Покровская СОШ №2 с УИОП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. Покровск, Хангаласского улуса республики Саха (Якут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042920" y="4941720"/>
            <a:ext cx="7772400" cy="18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р: Егорова Ольга Иванов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истории и обществозн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БОУ ПСОШ №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Объект 3" descr=""/>
          <p:cNvPicPr/>
          <p:nvPr/>
        </p:nvPicPr>
        <p:blipFill>
          <a:blip r:embed="rId1"/>
          <a:stretch/>
        </p:blipFill>
        <p:spPr>
          <a:xfrm>
            <a:off x="249120" y="334800"/>
            <a:ext cx="864576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Объект 6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35200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Объект 3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985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500120"/>
          </a:xfrm>
          <a:prstGeom prst="rect">
            <a:avLst/>
          </a:prstGeom>
          <a:ln w="0">
            <a:noFill/>
          </a:ln>
        </p:spPr>
      </p:pic>
      <p:sp>
        <p:nvSpPr>
          <p:cNvPr id="233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6c7aa"/>
                </a:solidFill>
                <a:uFillTx/>
                <a:latin typeface="Times New Roman"/>
                <a:ea typeface="Arial"/>
                <a:hlinkClick r:id="rId2"/>
              </a:rPr>
              <a:t>http://www.aphorisme.ru/by-authors/pifagor/?q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http://aphorism-citation.ru/index/0-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http://www.c-cafe.ru/days/bio/af/00000321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http://citaty.su/aforizmy-i-citaty-stendal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http://my.mail.ru/community/cat_planet/251A128875EE77E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http://www.aphorisme.ru/by-authors/turgenev/?q=9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516360" cy="200484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3" descr=""/>
          <p:cNvPicPr/>
          <p:nvPr/>
        </p:nvPicPr>
        <p:blipFill>
          <a:blip r:embed="rId2"/>
          <a:stretch/>
        </p:blipFill>
        <p:spPr>
          <a:xfrm>
            <a:off x="6227640" y="692280"/>
            <a:ext cx="2440080" cy="3475080"/>
          </a:xfrm>
          <a:prstGeom prst="rect">
            <a:avLst/>
          </a:prstGeom>
          <a:ln w="0">
            <a:noFill/>
          </a:ln>
        </p:spPr>
      </p:pic>
      <p:pic>
        <p:nvPicPr>
          <p:cNvPr id="219" name="Заголовок 1" descr=""/>
          <p:cNvPicPr/>
          <p:nvPr/>
        </p:nvPicPr>
        <p:blipFill>
          <a:blip r:embed="rId3"/>
          <a:stretch/>
        </p:blipFill>
        <p:spPr>
          <a:xfrm>
            <a:off x="469800" y="695160"/>
            <a:ext cx="55404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Объект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8676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Объект 3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17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Объект 3" descr=""/>
          <p:cNvPicPr/>
          <p:nvPr/>
        </p:nvPicPr>
        <p:blipFill>
          <a:blip r:embed="rId1"/>
          <a:stretch/>
        </p:blipFill>
        <p:spPr>
          <a:xfrm>
            <a:off x="987480" y="1523880"/>
            <a:ext cx="74977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Объект 3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1052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Объект 3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83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6472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Объект 3" descr=""/>
          <p:cNvPicPr/>
          <p:nvPr/>
        </p:nvPicPr>
        <p:blipFill>
          <a:blip r:embed="rId1"/>
          <a:stretch/>
        </p:blipFill>
        <p:spPr>
          <a:xfrm>
            <a:off x="3708360" y="3141720"/>
            <a:ext cx="5216400" cy="3475080"/>
          </a:xfrm>
          <a:prstGeom prst="rect">
            <a:avLst/>
          </a:prstGeom>
          <a:ln w="0">
            <a:noFill/>
          </a:ln>
        </p:spPr>
      </p:pic>
      <p:pic>
        <p:nvPicPr>
          <p:cNvPr id="228" name="Объект 3" descr=""/>
          <p:cNvPicPr/>
          <p:nvPr/>
        </p:nvPicPr>
        <p:blipFill>
          <a:blip r:embed="rId2"/>
          <a:stretch/>
        </p:blipFill>
        <p:spPr>
          <a:xfrm>
            <a:off x="250920" y="0"/>
            <a:ext cx="55530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0T20:21:53Z</dcterms:created>
  <dc:creator>иван</dc:creator>
  <dc:description/>
  <dc:language>en-US</dc:language>
  <cp:lastModifiedBy>Windows User</cp:lastModifiedBy>
  <dcterms:modified xsi:type="dcterms:W3CDTF">2020-11-19T08:45:13Z</dcterms:modified>
  <cp:revision>12</cp:revision>
  <dc:subject/>
  <dc:title>Семья или карьера</dc:title>
</cp:coreProperties>
</file>